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E10-8A00-4D52-843D-EBA2E3D6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EC5-5C25-41F5-939B-CA6C1619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408-B36E-4251-A9DF-532ACCE4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9C3-8A00-4202-925A-A4BFB850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1E2-8A30-41D8-90A2-B57B4E5B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834-2C3E-4E3F-807E-C74D1B48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8D1-25E4-45FE-AD87-014D2446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4A5-6696-4159-B459-4C32FE92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BEB-DD41-430B-8C5E-E1770A5C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980-FB06-48EC-BF15-D09B4B14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C240-8A95-46C1-93EF-8F8BAC09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A3D-7797-4F7A-9796-9F8F2148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E5E-790E-472F-BF17-7E1FE2CCC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79280" y="2205000"/>
            <a:ext cx="8785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ехнология методической работы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в школе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79280" y="333360"/>
            <a:ext cx="8713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Экспертный совет школы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916280"/>
            <a:ext cx="8893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оценка компилятивных пр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программ элективных и спец. 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оценка профильного наполнения образовательных обла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24000" y="333360"/>
            <a:ext cx="8496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едметные МО, кафедры, мобильные ТГ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557360"/>
            <a:ext cx="4176720" cy="57636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5" y="0"/>
                </a:lnTo>
                <a:lnTo>
                  <a:pt x="21600" y="10800"/>
                </a:lnTo>
                <a:lnTo>
                  <a:pt x="18915" y="21600"/>
                </a:lnTo>
                <a:lnTo>
                  <a:pt x="0" y="21600"/>
                </a:lnTo>
                <a:lnTo>
                  <a:pt x="2685" y="10800"/>
                </a:ln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метные 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2708280"/>
            <a:ext cx="4176720" cy="57636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5" y="0"/>
                </a:lnTo>
                <a:lnTo>
                  <a:pt x="21600" y="10800"/>
                </a:lnTo>
                <a:lnTo>
                  <a:pt x="18915" y="21600"/>
                </a:lnTo>
                <a:lnTo>
                  <a:pt x="0" y="21600"/>
                </a:lnTo>
                <a:lnTo>
                  <a:pt x="2685" y="10800"/>
                </a:ln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фе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860640"/>
            <a:ext cx="4176720" cy="576360"/>
          </a:xfrm>
          <a:custGeom>
            <a:avLst/>
            <a:gdLst>
              <a:gd name="textAreaLeft" fmla="*/ 0 w 4176720"/>
              <a:gd name="textAreaRight" fmla="*/ 4177080 w 4176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5" y="0"/>
                </a:lnTo>
                <a:lnTo>
                  <a:pt x="21600" y="10800"/>
                </a:lnTo>
                <a:lnTo>
                  <a:pt x="18915" y="21600"/>
                </a:lnTo>
                <a:lnTo>
                  <a:pt x="0" y="21600"/>
                </a:lnTo>
                <a:lnTo>
                  <a:pt x="2685" y="10800"/>
                </a:lnTo>
                <a:close/>
              </a:path>
            </a:pathLst>
          </a:custGeom>
          <a:solidFill>
            <a:srgbClr val="cc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бильные Т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1628640"/>
            <a:ext cx="4032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дагоги одной специ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278136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я смежных дисцип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716280"/>
            <a:ext cx="4176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уппы педагогов по актуальным, интересующим их проблемам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867280" y="4383000"/>
            <a:ext cx="30974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333360"/>
            <a:ext cx="914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Аттестация педагогических кадров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734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Для всех аттестуемых учителей обязательным является оформление </a:t>
            </a:r>
            <a:r>
              <a:rPr b="0" lang="en-US" sz="3200" spc="-1" strike="noStrike">
                <a:solidFill>
                  <a:srgbClr val="ff3300"/>
                </a:solidFill>
                <a:latin typeface="Monotype Corsiva"/>
              </a:rPr>
              <a:t>учительского 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76720" y="2313000"/>
            <a:ext cx="3897360" cy="2924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771640" y="3716280"/>
            <a:ext cx="2519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260280"/>
            <a:ext cx="828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Формы методической работы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889440" cy="298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16360" y="1197000"/>
            <a:ext cx="3970440" cy="2978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411280" y="3500280"/>
            <a:ext cx="41752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95280" y="260280"/>
            <a:ext cx="828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Формы методической работы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14300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3457440" cy="2594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076720" y="378936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556000" y="1989000"/>
            <a:ext cx="3457440" cy="2594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784840" y="1125360"/>
            <a:ext cx="32511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60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4000" y="44280"/>
            <a:ext cx="8569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Интегративная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едметно-методическая декада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1876320"/>
            <a:ext cx="7704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городской (или школьный) семинар учителей того или иного предм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852640"/>
            <a:ext cx="770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защита проектов (социальных) или учеб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3467160"/>
            <a:ext cx="770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ыставки творческих работ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076640"/>
            <a:ext cx="770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открытые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4653000"/>
            <a:ext cx="770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встречи с обществен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229360"/>
            <a:ext cx="770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гры – викторины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5805360"/>
            <a:ext cx="770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осещения музеев, экскурси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6391440"/>
            <a:ext cx="7704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интегрированные урок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067280" y="2276640"/>
            <a:ext cx="1152360" cy="1008000"/>
          </a:xfrm>
          <a:prstGeom prst="down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333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2001 года – школа участник эксперимента по обновлению содержания и структуры обще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1628640"/>
            <a:ext cx="612144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Monotype Corsiva"/>
              </a:rPr>
              <a:t>Задачи методической служ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3284640"/>
            <a:ext cx="7632720" cy="3018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обеспечение условий для непрерывного совершен-ствования профессионального мастерства учи-теля с учётом экспериментальной работы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rot="10800000">
            <a:off x="108000" y="1988640"/>
            <a:ext cx="503280" cy="35276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2276640"/>
            <a:ext cx="2160720" cy="792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ШК 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под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3284640"/>
            <a:ext cx="2160720" cy="792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од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4292640"/>
            <a:ext cx="2160720" cy="11523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рректир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ндивиду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ан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вышения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ехнологи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дгот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0800000">
            <a:off x="3059280" y="1989000"/>
            <a:ext cx="576000" cy="367200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межуточных итогов преподав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рректировка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3068640"/>
            <a:ext cx="1368360" cy="129708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бщешко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од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ро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5290920" y="1988640"/>
            <a:ext cx="649080" cy="3745080"/>
          </a:xfrm>
          <a:prstGeom prst="rect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межуточных итогов преподав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рректировка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2997360"/>
            <a:ext cx="1584360" cy="143964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бесед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 проблем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вари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тогов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48360" y="2205000"/>
            <a:ext cx="2087640" cy="647640"/>
          </a:xfrm>
          <a:prstGeom prst="rect">
            <a:avLst/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нал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стояния препода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4869000"/>
            <a:ext cx="2051280" cy="576000"/>
          </a:xfrm>
          <a:prstGeom prst="rect">
            <a:avLst/>
          </a:prstGeom>
          <a:solidFill>
            <a:srgbClr val="99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тоги результа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боты в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89000"/>
            <a:ext cx="856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Контрольно-аналитическая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деятельность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3141720"/>
            <a:ext cx="360360" cy="1511280"/>
          </a:xfrm>
          <a:prstGeom prst="downArrow">
            <a:avLst>
              <a:gd name="adj1" fmla="val 49778"/>
              <a:gd name="adj2" fmla="val 67839"/>
            </a:avLst>
          </a:prstGeom>
          <a:solidFill>
            <a:srgbClr val="ff7a5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60280"/>
            <a:ext cx="7991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хема построения целостн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ической работы в школ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3068640"/>
            <a:ext cx="1224000" cy="1008000"/>
          </a:xfrm>
          <a:prstGeom prst="rightArrow">
            <a:avLst>
              <a:gd name="adj1" fmla="val 68815"/>
              <a:gd name="adj2" fmla="val 31150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3068640"/>
            <a:ext cx="1943280" cy="1008000"/>
          </a:xfrm>
          <a:prstGeom prst="rightArrow">
            <a:avLst>
              <a:gd name="adj1" fmla="val 68815"/>
              <a:gd name="adj2" fmla="val 49455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граммно-целев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3068640"/>
            <a:ext cx="1150920" cy="1008000"/>
          </a:xfrm>
          <a:prstGeom prst="rightArrow">
            <a:avLst>
              <a:gd name="adj1" fmla="val 68815"/>
              <a:gd name="adj2" fmla="val 29290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068640"/>
            <a:ext cx="1150920" cy="1008000"/>
          </a:xfrm>
          <a:prstGeom prst="rightArrow">
            <a:avLst>
              <a:gd name="adj1" fmla="val 68815"/>
              <a:gd name="adj2" fmla="val 29290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сн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85080" y="3068640"/>
            <a:ext cx="1150920" cy="1008000"/>
          </a:xfrm>
          <a:prstGeom prst="rightArrow">
            <a:avLst>
              <a:gd name="adj1" fmla="val 68815"/>
              <a:gd name="adj2" fmla="val 29290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нтроль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3213000"/>
            <a:ext cx="1297080" cy="720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347920"/>
            <a:ext cx="1297080" cy="720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27640" y="4076640"/>
            <a:ext cx="1297080" cy="7207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867280" y="2707920"/>
            <a:ext cx="36036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57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573360"/>
            <a:ext cx="36036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4720" y="2708280"/>
            <a:ext cx="36036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24720" y="35733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524360" y="3573360"/>
            <a:ext cx="36036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 rot="5400000">
            <a:off x="4579920" y="108360"/>
            <a:ext cx="2520" cy="7652520"/>
          </a:xfrm>
          <a:prstGeom prst="bentConnector3">
            <a:avLst>
              <a:gd name="adj1" fmla="val 72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/>
          <p:nvPr/>
        </p:nvCxnSpPr>
        <p:spPr>
          <a:xfrm rot="5400000">
            <a:off x="4579920" y="-612360"/>
            <a:ext cx="2520" cy="7652520"/>
          </a:xfrm>
          <a:prstGeom prst="bentConnector3">
            <a:avLst>
              <a:gd name="adj1" fmla="val -73300000"/>
            </a:avLst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00"/>
                            </p:stCondLst>
                            <p:childTnLst>
                              <p:par>
                                <p:cTn id="5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500"/>
                            </p:stCondLst>
                            <p:childTnLst>
                              <p:par>
                                <p:cTn id="5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000"/>
                            </p:stCondLst>
                            <p:childTnLst>
                              <p:par>
                                <p:cTn id="5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500"/>
                            </p:stCondLst>
                            <p:childTnLst>
                              <p:par>
                                <p:cTn id="5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0"/>
                            </p:stCondLst>
                            <p:childTnLst>
                              <p:par>
                                <p:cTn id="6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500"/>
                            </p:stCondLst>
                            <p:childTnLst>
                              <p:par>
                                <p:cTn id="6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6500"/>
                            </p:stCondLst>
                            <p:childTnLst>
                              <p:par>
                                <p:cTn id="6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50920" y="549360"/>
            <a:ext cx="6086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Образовательные задачи: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1887480"/>
            <a:ext cx="8064720" cy="9471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еспечение теоретической, психологической, методической поддержки уч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3543480"/>
            <a:ext cx="8064720" cy="9471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мулирование повышения профессиональ-ного уровня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16280"/>
            <a:ext cx="82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36133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 2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920" y="549360"/>
            <a:ext cx="806616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Функции методической работы: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1773360"/>
            <a:ext cx="9144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обучения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взаимообмена педагогическим опы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стема планомерной инновационной деятель-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0920" y="476280"/>
            <a:ext cx="6086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Диагностический блок: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484280"/>
            <a:ext cx="864072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изучение мотивационной среды экспериментальной деятельност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диагностика мотивационной готовности кадров к введению профи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диагностика условий успешной мотивации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определение стиля педагогического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самооценка профессиональ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диагностика профессиональной подготовк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степень удовлетворённости учителя профессиональной деятель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2200" y="404640"/>
            <a:ext cx="82821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ограммно-проектный метод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55412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Программно-целевой план включает в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421000"/>
            <a:ext cx="6985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у над единой методической т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068640"/>
            <a:ext cx="6985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у научно-методического совета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3716280"/>
            <a:ext cx="6985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у по обобщению и распространению опы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365720"/>
            <a:ext cx="6985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 цикловых объ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013360"/>
            <a:ext cx="6985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 по аттес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5661000"/>
            <a:ext cx="6985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 с молодыми уч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476280"/>
            <a:ext cx="806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_UncleyTitulB&amp;W"/>
              </a:rPr>
              <a:t>Программа развития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_UncleyTitulB&amp;W"/>
              <a:ea typeface="a_UncleyTitulB&amp;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_UncleyTitulB&amp;W"/>
              </a:rPr>
              <a:t>школы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_UncleyTitulB&amp;W"/>
              <a:ea typeface="a_UncleyTitulB&amp;W"/>
            </a:endParaRPr>
          </a:p>
        </p:txBody>
      </p:sp>
      <p:sp>
        <p:nvSpPr>
          <p:cNvPr id="61" name="desk1"/>
          <p:cNvSpPr/>
          <p:nvPr/>
        </p:nvSpPr>
        <p:spPr>
          <a:xfrm>
            <a:off x="250920" y="2494080"/>
            <a:ext cx="6337080" cy="1655640"/>
          </a:xfrm>
          <a:prstGeom prst="pi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2001 – 2006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«Школа равных возможнос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esk1"/>
          <p:cNvSpPr/>
          <p:nvPr/>
        </p:nvSpPr>
        <p:spPr>
          <a:xfrm>
            <a:off x="2050920" y="3645000"/>
            <a:ext cx="6337440" cy="1655640"/>
          </a:xfrm>
          <a:prstGeom prst="pie">
            <a:avLst/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2006 – 2009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«Школа нового 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50920" y="189000"/>
            <a:ext cx="87138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иоритетные направления методической 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работы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276640"/>
            <a:ext cx="856908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управления экспериментальной и инновационной деятель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условий для непрерывного совершенствования профессионального мастерства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ормационно-методическое обеспечение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учение, обобщение и распространение П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грация основного и дополнительн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трольно-аналитическая экспертиза образователь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79280" y="11592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Научно-методический совет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1265400"/>
            <a:ext cx="6553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 деятельности НМС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непрерывное совершенствование квалификации педаг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ile"/>
          <p:cNvSpPr/>
          <p:nvPr/>
        </p:nvSpPr>
        <p:spPr>
          <a:xfrm>
            <a:off x="1979640" y="2205000"/>
            <a:ext cx="4319640" cy="2016000"/>
          </a:xfrm>
          <a:prstGeom prst="pi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Заседания кафедр и М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ile"/>
          <p:cNvSpPr/>
          <p:nvPr/>
        </p:nvSpPr>
        <p:spPr>
          <a:xfrm>
            <a:off x="2987640" y="2852640"/>
            <a:ext cx="4321080" cy="2016360"/>
          </a:xfrm>
          <a:prstGeom prst="pi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Засе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НМ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ile"/>
          <p:cNvSpPr/>
          <p:nvPr/>
        </p:nvSpPr>
        <p:spPr>
          <a:xfrm>
            <a:off x="4140360" y="3500280"/>
            <a:ext cx="4321080" cy="2016360"/>
          </a:xfrm>
          <a:prstGeom prst="pie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Предметные кафедры, МО, Т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9280" y="115920"/>
            <a:ext cx="871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Научно-методический совет</a:t>
            </a:r>
            <a:endParaRPr b="1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25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Повышение качеств учебных занятий на основе внедрения современных информационных технолог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565360"/>
            <a:ext cx="3240360" cy="71928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4" y="0"/>
                </a:lnTo>
                <a:lnTo>
                  <a:pt x="21600" y="10800"/>
                </a:lnTo>
                <a:lnTo>
                  <a:pt x="198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федра воспитате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2633760"/>
            <a:ext cx="540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жегодные отчёты деятельности класса с применением электронных нос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3718080"/>
            <a:ext cx="3240360" cy="71892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4" y="0"/>
                </a:lnTo>
                <a:lnTo>
                  <a:pt x="21600" y="10800"/>
                </a:lnTo>
                <a:lnTo>
                  <a:pt x="198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федра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3716280"/>
            <a:ext cx="540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аткосрочные курсы для педагогов (обучено 18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4870440"/>
            <a:ext cx="3240360" cy="719280"/>
          </a:xfrm>
          <a:custGeom>
            <a:avLst/>
            <a:gdLst>
              <a:gd name="textAreaLeft" fmla="*/ 0 w 3240360"/>
              <a:gd name="textAreaRight" fmla="*/ 3240720 w 3240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54" y="0"/>
                </a:lnTo>
                <a:lnTo>
                  <a:pt x="21600" y="10800"/>
                </a:lnTo>
                <a:lnTo>
                  <a:pt x="198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федра гуманита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360" y="4865760"/>
            <a:ext cx="540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банка электронных пособий по пред-метам гуманитарного 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7:27:26Z</dcterms:created>
  <dc:creator>school</dc:creator>
  <dc:description/>
  <dc:language>en-US</dc:language>
  <cp:lastModifiedBy>school</cp:lastModifiedBy>
  <dcterms:modified xsi:type="dcterms:W3CDTF">2007-10-15T04:35:10Z</dcterms:modified>
  <cp:revision>13</cp:revision>
  <dc:subject/>
  <dc:title>Слайд 1</dc:title>
</cp:coreProperties>
</file>